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30.png" ContentType="image/png"/>
  <Override PartName="/ppt/media/image28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197-100C-413C-A1D9-14A1BBB6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1A7-A518-4DA3-8C7D-782A1B39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5D5D-1BE2-4302-B605-7E90ED38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164-C289-447B-8831-5F53E4BF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7308-12EF-4BFE-B9A7-8B6F61D1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C019-280C-4F2D-B4A6-AC0755F9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6396-EF8F-4418-882D-6C3EEBF6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6411-2E5D-4716-AF25-C6175009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2656-80BB-4A92-BC5E-070017A3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1C8B-367F-4B51-BA97-80004D93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1062-94B4-45AF-A751-E169556B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511-7809-43A2-A33D-8853157A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B819-7E2A-43E8-81CE-F060A9EF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46F2-1FBF-4907-A966-82648680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E33E-C5E5-4451-9C2F-3B4E91B3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BDE2-07AE-458C-83CD-5EE2C16D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4A57-FECB-4548-8BD0-23CC9548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84ED-EC5C-4948-BA1D-1D45C760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CE5-3B5A-4C80-B218-8A9FAA62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336B-1A8D-4176-95B4-B139B78F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2DAB-0945-463D-AE9C-C93F3597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C2F5-7A22-49FC-ABBC-8E7248E2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9467-1907-449F-86F9-8F53FECB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0CF-93E6-4EC4-BCDD-0453AC7A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236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048120" y="640080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B254-BB75-462E-97BB-B1DF58DA4477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8D6D-4A43-4790-9CB8-433CB99AC2D6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12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geomundo.com.br/nossa_escola_normas_trabalho_escolar.htm#CONCLUS&#195;O%23CONCLUS&#195;O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149720"/>
            <a:ext cx="8534160" cy="11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Geometria Molecular e Interações Químicas Molecular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Tetraédrica   F   (CH</a:t>
            </a:r>
            <a:r>
              <a:rPr b="0" lang="pt-BR" sz="44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)   109,5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662040" y="2786040"/>
            <a:ext cx="3000240" cy="323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4619520" y="2913120"/>
            <a:ext cx="288288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nus Paul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Prêmio Nobel de Química em 1954 e da Paz em 1962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Famoso por suas pesquisas sobre estruturas moleculares e pela luta contra as armas nuclear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956120" y="2060640"/>
            <a:ext cx="330516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Conceito de Eletronegatividad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Eletronegatividade é a tendência que o átomo de um determinado elemento apresenta para atrair elétrons, num contexto em que se acha ligado a outro átom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ui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ntem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1" lang="pt-BR" sz="1600" spc="-1" strike="noStrike">
                <a:solidFill>
                  <a:srgbClr val="eaeaea"/>
                </a:solidFill>
                <a:latin typeface="Times New Roman"/>
              </a:rPr>
              <a:t>l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ube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pt-BR" sz="16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asil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ó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omi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ão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úngaro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  Meta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755640" y="5300640"/>
            <a:ext cx="7273800" cy="432000"/>
          </a:xfrm>
          <a:prstGeom prst="leftArrow">
            <a:avLst>
              <a:gd name="adj1" fmla="val 50000"/>
              <a:gd name="adj2" fmla="val 420937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Gráfico da eletronegativida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Picture 4" descr="http://1.bp.blogspot.com/_ptRreTrA-Ms/S6KgHhBeihI/AAAAAAAAADA/1RYF5jQsDbU/s400/Tabela+e+a+eletronegatividade.bmp"/>
          <p:cNvPicPr/>
          <p:nvPr/>
        </p:nvPicPr>
        <p:blipFill>
          <a:blip r:embed="rId1"/>
          <a:stretch/>
        </p:blipFill>
        <p:spPr>
          <a:xfrm>
            <a:off x="179280" y="1413000"/>
            <a:ext cx="856944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Valores de Eletronegativida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662040" y="19051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5809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olaridade das Ligaçõ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Polares e Apolar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Ligação covalente polar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∆ = 4,0 – 2,1 = 1,9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δ+        δ- </a:t>
            </a:r>
            <a:br>
              <a:rPr sz="1800"/>
            </a:b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H ─ Cl    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*Como o Cloro é mais eletronegativo, atrai para si o pólo com carga positiva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Ligação covalente apolar</a:t>
            </a:r>
            <a:r>
              <a:rPr b="1" lang="pt-BR" sz="1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∆ = 2,1 -2,1 = 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H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─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H           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* Possuem a mesma eletronegatividad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Iônica X Ligação Covalent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Ligação iônica : Doação e recebimento de elétrons.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(metais com não metais),( 1,2e3 com 5,6 e7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Valores de 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Arial"/>
              </a:rPr>
              <a:t>∆ acima de 2 indica ligação com caráter iônic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KCl ∆ = 3,0 – 0,8 = 2,2     (IÔNICA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NaCl ∆ = 3,0 – 0,9 = 2,1     (IÔNICA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Iônica X Ligação Covalent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Ligação Covalente: Compartilhamento de pares de elétrons. (Não metai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Valores de 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Arial"/>
              </a:rPr>
              <a:t>∆ abaixo de 1,5 indica ligação com caráter predominantemente covalen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Cl</a:t>
            </a:r>
            <a:r>
              <a:rPr b="0" lang="pt-BR" sz="1800" spc="-1" strike="noStrike" baseline="-25000">
                <a:solidFill>
                  <a:srgbClr val="eaeaea"/>
                </a:solidFill>
                <a:latin typeface="Times New Roman"/>
                <a:ea typeface="Arial"/>
              </a:rPr>
              <a:t>2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∆ = 3,0 – 3,0 = zero     (COVALENTE </a:t>
            </a:r>
            <a:r>
              <a:rPr b="0" lang="pt-BR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APOLAR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BrCl ∆ = 3,0 – 2,8 = 0,2    (COVALENTE POLAR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ICl  ∆ = 3,0 – 2,5 = 0,5      (COVALENTE POLAR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HCl ∆ = 3,0 – 2,1 = 0,9     (COVALENTE POLAR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5809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olaridade das Molécul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Geometria Molecul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É o estudo de como os átomos estão distribuídos espacialmente em uma molécula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Dependendo dos átomos que a compõem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As principais classificações são: linear, angular, trigonal plana, piramidal e tetraédric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Para se determinar a geometria de uma molécula, é preciso conhecer a teoria da repulsão dos pares eletrônicos da camada de valênci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olaridade de molécul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A polaridade de uma molécula é verificada pelo valor do momento de dipolo 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  <a:ea typeface="Arial"/>
              </a:rPr>
              <a:t>→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A polaridade de moléculas com mais de dois átomos é expressa por: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  <a:ea typeface="Arial"/>
              </a:rPr>
              <a:t> →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µ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  <a:ea typeface="Arial"/>
              </a:rPr>
              <a:t>R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(momento dipolo resultante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Arial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H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  <a:ea typeface="Arial"/>
              </a:rPr>
              <a:t>2 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       H─H           geometria linear     →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µ = zero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Apol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HF         H ─F          geometria linear       →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µ ≠ 0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Pol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C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  <a:ea typeface="Arial"/>
              </a:rPr>
              <a:t>2 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   O═C ═ O      geometria linear      →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µ = 0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Apol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HCN    H ─ C≡N       geometria linear      →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µ ≠ 0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Pol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olaridade das molécul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62040" y="1904760"/>
            <a:ext cx="3814560" cy="19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Amônia(NH</a:t>
            </a:r>
            <a:r>
              <a:rPr b="0" lang="pt-BR" sz="24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) Pol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19160" y="1904760"/>
            <a:ext cx="3814920" cy="19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2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O  Pol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62040" y="4029120"/>
            <a:ext cx="381456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2400" spc="-1" strike="noStrike" baseline="-25000">
                <a:solidFill>
                  <a:srgbClr val="eaeaea"/>
                </a:solidFill>
                <a:latin typeface="Times New Roman"/>
              </a:rPr>
              <a:t>4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Apol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19160" y="4029120"/>
            <a:ext cx="381492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HCCl</a:t>
            </a:r>
            <a:r>
              <a:rPr b="0" lang="pt-BR" sz="2400" spc="-1" strike="noStrike" baseline="-25000">
                <a:solidFill>
                  <a:srgbClr val="eaeaea"/>
                </a:solidFill>
                <a:latin typeface="Times New Roman"/>
              </a:rPr>
              <a:t>3  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Pol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826920" y="4508640"/>
            <a:ext cx="2405160" cy="2133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100px-Chloroform_displayed"/>
          <p:cNvPicPr/>
          <p:nvPr/>
        </p:nvPicPr>
        <p:blipFill>
          <a:blip r:embed="rId2"/>
          <a:stretch/>
        </p:blipFill>
        <p:spPr>
          <a:xfrm>
            <a:off x="5292720" y="4508640"/>
            <a:ext cx="2016000" cy="1895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3"/>
          <a:stretch/>
        </p:blipFill>
        <p:spPr>
          <a:xfrm>
            <a:off x="1187280" y="2421000"/>
            <a:ext cx="1729080" cy="1687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"/>
          <p:cNvPicPr/>
          <p:nvPr/>
        </p:nvPicPr>
        <p:blipFill>
          <a:blip r:embed="rId4"/>
          <a:stretch/>
        </p:blipFill>
        <p:spPr>
          <a:xfrm>
            <a:off x="5364000" y="24210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5809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Força de Interação ou </a:t>
            </a:r>
            <a:br>
              <a:rPr sz="4400"/>
            </a:b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Intermolecul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Força de Interação ou </a:t>
            </a:r>
            <a:br>
              <a:rPr sz="4400"/>
            </a:b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Intermolecul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43444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O que mantêm as moléculas unidas nos três estados (sólido, líquido e gasoso) são as chamadas ligações ou forças ou interações molecular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São três tipos de força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Ligação de Hidrogên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Dipolo permanente ou dipolo-dipolo (D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Dipolo instantâneo  (DI), força de van  der Waals ou força de dispersão de Lond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Estados de agregação de uma substânci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49016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de Hidrogêni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São interações que ocorrem  entre moléculas que apresentem H ligados diretamente a </a:t>
            </a:r>
            <a:r>
              <a:rPr b="1" lang="pt-BR" sz="3200" spc="-1" strike="noStrike" u="sng">
                <a:solidFill>
                  <a:srgbClr val="eaeaea"/>
                </a:solidFill>
                <a:uFillTx/>
                <a:latin typeface="Times New Roman"/>
              </a:rPr>
              <a:t>F</a:t>
            </a:r>
            <a:r>
              <a:rPr b="1" lang="pt-BR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3200" spc="-1" strike="noStrike" u="sng">
                <a:solidFill>
                  <a:srgbClr val="eaeaea"/>
                </a:solidFill>
                <a:uFillTx/>
                <a:latin typeface="Times New Roman"/>
              </a:rPr>
              <a:t>O </a:t>
            </a:r>
            <a:r>
              <a:rPr b="1" lang="pt-BR" sz="3200" spc="-1" strike="noStrike">
                <a:solidFill>
                  <a:srgbClr val="eaeaea"/>
                </a:solidFill>
                <a:latin typeface="Times New Roman"/>
              </a:rPr>
              <a:t>ou</a:t>
            </a:r>
            <a:r>
              <a:rPr b="1" lang="pt-BR" sz="3200" spc="-1" strike="noStrike" u="sng">
                <a:solidFill>
                  <a:srgbClr val="eaeaea"/>
                </a:solidFill>
                <a:uFillTx/>
                <a:latin typeface="Times New Roman"/>
              </a:rPr>
              <a:t> N</a:t>
            </a:r>
            <a:r>
              <a:rPr b="1" lang="pt-BR" sz="3200" spc="-1" strike="noStrike">
                <a:solidFill>
                  <a:srgbClr val="eaeaea"/>
                </a:solidFill>
                <a:latin typeface="Times New Roman"/>
              </a:rPr>
              <a:t>.       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</a:rPr>
              <a:t>(EX: NH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</a:rPr>
              <a:t> – H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</a:rPr>
              <a:t>O -HF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4319280" cy="2376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"/>
          <p:cNvPicPr/>
          <p:nvPr/>
        </p:nvPicPr>
        <p:blipFill>
          <a:blip r:embed="rId2"/>
          <a:stretch/>
        </p:blipFill>
        <p:spPr>
          <a:xfrm>
            <a:off x="5867280" y="3573360"/>
            <a:ext cx="26622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de Hidrogêni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Ligação covalente e de hidrogên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Ligação de hidrogênio rompen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Picture 10" descr=""/>
          <p:cNvPicPr/>
          <p:nvPr/>
        </p:nvPicPr>
        <p:blipFill>
          <a:blip r:embed="rId1"/>
          <a:stretch/>
        </p:blipFill>
        <p:spPr>
          <a:xfrm>
            <a:off x="4427640" y="278136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29955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Dipolo Dipol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Força de atração entre dipolos, positivos e negativ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Ex: HCl  -HI - PCl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Picture 7" descr="180px-Dipole-dipole-interaction-in-HCl-2D"/>
          <p:cNvPicPr/>
          <p:nvPr/>
        </p:nvPicPr>
        <p:blipFill>
          <a:blip r:embed="rId1"/>
          <a:stretch/>
        </p:blipFill>
        <p:spPr>
          <a:xfrm>
            <a:off x="1332000" y="2276640"/>
            <a:ext cx="3168720" cy="757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3241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Dipolo Induzido ou van der Waa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correm em todas as substâncias  apola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Cl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Br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I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hidrocarbonet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692360" y="3684600"/>
            <a:ext cx="3058920" cy="3173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2"/>
          <a:stretch/>
        </p:blipFill>
        <p:spPr>
          <a:xfrm>
            <a:off x="6443640" y="2997360"/>
            <a:ext cx="160488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35809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Forças Intermoleculares e Ponto de Ebuliçã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448920"/>
            <a:ext cx="7086600" cy="12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VSEPR 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(repulsão dos pares de elétrons da camada de valência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Baseia-se na idéia de que pares eletrônicos da camada de valência de um átomo </a:t>
            </a:r>
            <a:r>
              <a:rPr b="1" lang="pt-BR" sz="2800" spc="-1" strike="noStrike">
                <a:solidFill>
                  <a:srgbClr val="eaeaea"/>
                </a:solidFill>
                <a:latin typeface="Times New Roman"/>
              </a:rPr>
              <a:t>central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, estejam fazendo Ligação química ou não, se comportam como nuvens eletrônicas que se repelem, ficando com a maior distância angular possível uns dos outros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Uma nuvem eletrônica pode ser representada por uma ligação simples, dupla, tripla ou mesmo por um par de elétrons que não estão a fazer ligação química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Forças Intermoleculares e Ponto de Ebuliçã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Quando uma substância á aquecida e passa do estado líquido ou sólido para o estado gasoso ocorre o rompimento de ligação intermolecula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1"/>
          <a:stretch/>
        </p:blipFill>
        <p:spPr>
          <a:xfrm>
            <a:off x="462456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Força de ligação e Ponto de Ebulição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Ligação de Hidrogênio: HF- 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 - N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Ligação Dipolo Dipolo: HCl – HBr – H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Ligação de Dipolo-instantâneo ou DI: F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Cl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Br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I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8101080" y="1916280"/>
            <a:ext cx="503280" cy="4392360"/>
          </a:xfrm>
          <a:prstGeom prst="upArrow">
            <a:avLst>
              <a:gd name="adj1" fmla="val 50000"/>
              <a:gd name="adj2" fmla="val 218187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onto de Ebulição e Tamanho da Cadei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6948360" y="2637000"/>
            <a:ext cx="720720" cy="3528720"/>
          </a:xfrm>
          <a:prstGeom prst="upArrow">
            <a:avLst>
              <a:gd name="adj1" fmla="val 50000"/>
              <a:gd name="adj2" fmla="val 122403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Peruzzo, Francisco Miragaia. </a:t>
            </a:r>
            <a:r>
              <a:rPr b="0" lang="pt-BR" sz="2800" spc="-1" strike="noStrike" u="sng">
                <a:solidFill>
                  <a:srgbClr val="eaeaea"/>
                </a:solidFill>
                <a:uFillTx/>
                <a:latin typeface="Times New Roman"/>
              </a:rPr>
              <a:t>Química na abordagem do cotidiano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: volume 2, ensino médio. São Paulo: Moderna, 2003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Google. Disponível em &lt;http://images.google.com.br/images&gt; acesso em 27/06/2009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Disponível em&lt;http://educacao.uol.com.br/quimica/&gt;acesso em 27/06/2009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68000" y="0"/>
            <a:ext cx="921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2000"/>
          </a:bodyPr>
          <a:p>
            <a:pPr marL="178200" indent="-1782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Redigir um trabalho digitado sobre: Geometria molecular , polaridade de ligações e forças intermolecula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78200" indent="-1782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Data de previa 13/08  quimicopolar@gmail.co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78200" indent="-1782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Entrega 24/0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78200" indent="-17820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eaeaea"/>
                </a:solidFill>
                <a:latin typeface="Times New Roman"/>
              </a:rPr>
              <a:t>I. ESTRUTURA OBRIGATÓRIA DE TRABALHO ESCOLAR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78200" indent="-1782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1. Capa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78200" indent="-1782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2. Folha de Rosto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78200" indent="-1782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3.Apresentação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78200" indent="-1782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4.Sumário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78200" indent="-1782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5.Textos ou Desenvolvimento do Conteúd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78200" indent="-1782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cc3300"/>
                </a:solidFill>
                <a:uFillTx/>
                <a:latin typeface="Times New Roman"/>
                <a:hlinkClick r:id="rId1"/>
              </a:rPr>
              <a:t> 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7. Conclusão pesso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78200" indent="-1782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8. Bibliografia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78200" indent="-17820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Geometria Molecul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755640" y="1725480"/>
            <a:ext cx="79200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near               l80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HC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HB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Picture 7" descr="Crystal structure of hydrogen (I) bromide"/>
          <p:cNvPicPr/>
          <p:nvPr/>
        </p:nvPicPr>
        <p:blipFill>
          <a:blip r:embed="rId1"/>
          <a:stretch/>
        </p:blipFill>
        <p:spPr>
          <a:xfrm>
            <a:off x="5076720" y="3141720"/>
            <a:ext cx="3240360" cy="24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Crystal structure of hydrogen (I) chloride"/>
          <p:cNvPicPr/>
          <p:nvPr/>
        </p:nvPicPr>
        <p:blipFill>
          <a:blip r:embed="rId2"/>
          <a:stretch/>
        </p:blipFill>
        <p:spPr>
          <a:xfrm>
            <a:off x="684360" y="3068640"/>
            <a:ext cx="34048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near               180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5292720" y="4149720"/>
            <a:ext cx="3260880" cy="15350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CO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611280" y="3284640"/>
            <a:ext cx="381636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Angular                104,5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4643280" y="2349360"/>
            <a:ext cx="4245120" cy="3159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28987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Trigonal Plana  D  BF</a:t>
            </a:r>
            <a:r>
              <a:rPr b="0" lang="pt-BR" sz="4400" spc="-1" strike="noStrike" baseline="-25000">
                <a:solidFill>
                  <a:srgbClr val="ffffcc"/>
                </a:solidFill>
                <a:latin typeface="Times New Roman"/>
              </a:rPr>
              <a:t>3     </a:t>
            </a: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120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4619520" y="2455920"/>
            <a:ext cx="3306960" cy="3564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662040" y="2455920"/>
            <a:ext cx="330336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irâmide Trigonal E    107,3º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662040" y="1905120"/>
            <a:ext cx="3424320" cy="3690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NH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Picture 10" descr="Crystal structure of nitrogen (III) fluoride"/>
          <p:cNvPicPr/>
          <p:nvPr/>
        </p:nvPicPr>
        <p:blipFill>
          <a:blip r:embed="rId2"/>
          <a:stretch/>
        </p:blipFill>
        <p:spPr>
          <a:xfrm>
            <a:off x="5076720" y="2565360"/>
            <a:ext cx="32227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4:07:23Z</dcterms:created>
  <dc:creator>XP</dc:creator>
  <dc:description/>
  <dc:language>en-US</dc:language>
  <cp:lastModifiedBy>Moisés</cp:lastModifiedBy>
  <dcterms:modified xsi:type="dcterms:W3CDTF">2012-08-06T14:53:20Z</dcterms:modified>
  <cp:revision>48</cp:revision>
  <dc:subject/>
  <dc:title>Geometria Molecular e Interações Químicas Moleculares</dc:title>
</cp:coreProperties>
</file>